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77BD-6F21-4970-B29A-34FAE28F91D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124C-F301-47B9-9E35-291B5634E07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F19-16F9-4605-B304-5391196D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CC8-0BC1-49B6-AC3A-7DB8113B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EE1-49F8-48D6-BD55-1DE0FA1E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5F9-0F26-4416-B422-FEDF32D6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D1C0-B334-424E-8611-65513118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349C-55AF-412C-9AFB-87DC99F2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BE24-3114-4003-AD44-CA503FA3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47D4-327B-47EC-BEA4-0B2C388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F7B4-6E72-46E1-A1D1-3AC74A43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742F-5876-4224-AD39-0F68EEC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110B-8E34-4889-83E7-9ACEE629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7D6-AEE4-4D62-9EEC-A462797E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7C82-6C02-42A0-8A67-926724D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7935-6D73-43CA-94B3-50B7E520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59C7-942F-4EA9-8C59-F0D373D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879-E841-4DCF-9BF9-9961FBFD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8C7E-FD97-425E-9C77-F3C84C59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A1D-843C-4F11-B130-2F5F540F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D9F-1A98-4B3B-A3F6-EFB40023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43C-529F-4DAF-8BEF-9B4917B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0E0-071F-4ED5-B04A-948F10DC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8FD-FFBA-4C64-8FB0-6B0E3EC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D2B-C521-4253-9D1E-53D5201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012-E0C3-4893-807C-2F4B802B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E8E9-E1CE-4F5F-98D3-EFCDB78CD9B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45C-7293-439F-89DB-D2577318FEE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0" descr="Logo NSRF"/>
          <p:cNvPicPr/>
          <p:nvPr/>
        </p:nvPicPr>
        <p:blipFill>
          <a:blip r:embed="rId1"/>
          <a:stretch/>
        </p:blipFill>
        <p:spPr>
          <a:xfrm>
            <a:off x="0" y="108900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2"/>
          <p:cNvSpPr/>
          <p:nvPr/>
        </p:nvSpPr>
        <p:spPr>
          <a:xfrm>
            <a:off x="4932360" y="2205000"/>
            <a:ext cx="421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5580000" y="47530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4932360" y="1644480"/>
            <a:ext cx="42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пция относно цели, приоритети и мер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ластта на административния капац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техническата помощ, които да бъдат финансирани през програмен пери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4-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651640" y="5662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Ирена Първан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иректор на дирекция ОПТ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Функционираща система за управление на средствата от ЕС в съответствие с принципите на доброто уп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Мерки, свързани с осигуряване на ефективно, ефикасно и регулярно изпълнение на политиките свързани с усвояване на средствата от СКФ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държане, развитие, оптимизиране и гарантиране на устойчивост на системата за управление, координация, мониторинг, контрол и одит на средствата от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крепа за изпълнение на стратегически дейности на системно ниво, свързани с използване на средствата от СКФ на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игуряване на информация и публичност за средствата от ОС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Мерки, свързани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тие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усъвършенстване на информационните системи за управление на средствата от Е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рки за поддържане, развитие и допълнително усъвършенстване на ИСУН 202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условия за функциониране на ИСУН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Транснационално сътрудничество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сърчаване на взаимното обучение, с цел повишаване ефективността на политиките, подкрепяни от ЕСФ, като включва партньори от най-малко две държави-чл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Мерки за обмяна на опит и експерти, координиране на съвместни действия в отделни области на взаимодействие, обмен на информация и добри практики за прилагане на принципите на добро управ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НОГОФОНДОВО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ФИНАНСИР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обвързаност и интегрираност на мерките с цел , постигане на синергия и цялостен резултат от прилагането 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една обща политика и стратегия, съчетаваща в себе си мерки свързани с повишаване на административния капацитет на публичните институции и съдебната система, както и гарантиране на ефективността и устойчивостта на системата за управление на средствата от 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Благодаря за вниманието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165720"/>
            <a:ext cx="22334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„Европа 2020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цифрова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кретни препоръки по страни (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лементи за Обща стратегическа рамка за периода 2014-2020 (работен документ на Европейската коми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зиция на службите на Европейската комисия за подготовката на Споразумението за партньорство и програмите в България за периода 2014 – 2020 (прое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на Европейския парламент и на Съвета за определяне на общоприложими разпоредби за ЕФРР, ЕСФ, КФ, ЕЗФРСР и ЕФМДР, обхванати от Общата стратегическа рамка, и за определяне на общи разпоредби за ЕФР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фонд за регионално развитие (ЕФР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оклад на Европейската комисия до Европейския парламент и Съвета относно напредъка на България по Механизма за сътрудничество и проверка (18.07.2012 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азвитие „България 2020“ (Н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еформи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вергентна програма на Р България 2012-2015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развитие на държавната администрация до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овационна стратегия за интелигентна специ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бща стратегия за електронно управление 2011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„Цифров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и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лан за намаляване на административната регулаторна тежест з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ктуализирана стратегия за децентрализация 2006-20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продължаване на реформата на съдебната система в условията на пълноправно членство в Европейския съю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НСРР 2007 –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ОП „Административен капацитет“ 2007 -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Обща стратегическа це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492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вишаване ефективността и ефикасността на публичната администрация и съдебната система за провеждане на политики и предоставяне на услуги на гражданите и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овишаване на институционалния капацитет на публичната администрация за провеждане на политики и предоставяне на качествени и интегриран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 Мерки, свързани с провеждането на политики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процеса по разработване и провеждане на политики и интелигентно регулиране за намаляване на административната теже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на организационното развитие за ефективни административни структу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съвършенстването на политиките за развитие на човешките ресурси и въвеждане на практики и стандарти за тяхното упр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частието на гражданското общество при разработването и прилагането на поли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Председателството на Р България през 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 Мерки, свързани с предоставянето на интегрирани административни услуги, включително електронн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витие на съществуващата и изграждане на нова информационна инфраструкт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веждане на нови и подобряване на съществуващите услуги, включително тяхното интегрир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информираността на гражданите за дейността и отговорностите на държавните институции и предоставяне на публичен достъп до съответните бази дан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 : Осигуряване на качествена и независима съдебна систем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родължаване на реформата на съдебната система и повишаване на нейната ефективност и ефикас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. Институционални м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крепване на капацитета на правосъдните и правоприлаг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квалификацията на магистратите, съдебните служители и разследв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Мерки, свързани електронно правосъд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недряване на информационни системи, ориентирани към обслужването (електронно правосъд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здаван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стандарти за обучение в областта на информационните технологии, специализирани за магистрати и съдебни служ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Ирена Първанова</cp:lastModifiedBy>
  <dcterms:modified xsi:type="dcterms:W3CDTF">2012-10-16T07:09:36Z</dcterms:modified>
  <cp:revision>245</cp:revision>
  <dc:subject/>
  <dc:title>НАЦИОНАЛНА СТРАТЕГИЧЕСКА РЕФЕРЕНТНА РАМКА</dc:title>
</cp:coreProperties>
</file>